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rojctor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A3B-E442-4E15-B1FC-3E65EC46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085-CBAD-4E64-994C-E5EE3C60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019-2A59-4AFF-B039-F32E1151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BFD-675D-47E1-A4D2-6A684025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BB1-E571-49FD-B3DB-8D0D5F35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C20-5D53-481C-8049-1A8297D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163-C0A5-466F-8B43-84CEC3A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05B-682E-4C65-B476-E3BF7B3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004-4E70-4009-9EF5-697A8987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3E8-77EE-4D97-914F-77AB9A3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88E-713D-4AF4-AFDD-8C56E31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0FB-6FD4-4B25-8F4C-31D6A99E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290-5C35-4B94-8AC9-13094649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SHMAL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isty McKe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p I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14600" y="266652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ing D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26665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Crisp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320547189_de1ae3a041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248520" cy="4162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571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’m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mores-main_Full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78160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Life Size 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rshmallows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ake A Delightful Tr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e Excel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Multiple Dess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Really Yum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I Mention How Good They Are to E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9000" y="289548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ts of Sug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676520" y="27428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let’s forget those because marshmallows are delicio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O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 B.C.—Egypt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3867910-Travel_Picture-Walk_like_an_Egyptian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hmallow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aea Officina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rshmellowWeb" descr=""/>
          <p:cNvPicPr/>
          <p:nvPr/>
        </p:nvPicPr>
        <p:blipFill>
          <a:blip r:embed="rId2"/>
          <a:stretch/>
        </p:blipFill>
        <p:spPr>
          <a:xfrm>
            <a:off x="4867200" y="1981080"/>
            <a:ext cx="3371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In Mar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to Europe, North Africa, and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il Pieces of Root Pulp and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kuva" descr=""/>
          <p:cNvPicPr/>
          <p:nvPr/>
        </p:nvPicPr>
        <p:blipFill>
          <a:blip r:embed="rId2"/>
          <a:stretch/>
        </p:blipFill>
        <p:spPr>
          <a:xfrm>
            <a:off x="600120" y="152388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x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nfl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the 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e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n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 P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ch Mogu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r14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3066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usion Process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atin and Other Whipping Agents Replace Marshmallow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5640" y="2361960"/>
            <a:ext cx="6172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te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lsify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v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rshmallo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olve Sugar and Corn Syr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gg White/ Gela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Fl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1:45:49Z</dcterms:created>
  <dc:creator>Kevin McKeever</dc:creator>
  <dc:description/>
  <dc:language>en-US</dc:language>
  <cp:lastModifiedBy>Kevin McKeever</cp:lastModifiedBy>
  <dcterms:modified xsi:type="dcterms:W3CDTF">2008-05-09T04:45:02Z</dcterms:modified>
  <cp:revision>2</cp:revision>
  <dc:subject/>
  <dc:title>MARSHMALLOWS</dc:title>
</cp:coreProperties>
</file>